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CB5-C97E-4593-9865-CEDB7D73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1BB-C05E-4724-B12C-ABDF724F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33B-3C67-4000-948D-0D08C039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0E9-A8B7-4193-BF9C-87EE0746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28C-106B-4EA4-9DD4-97BFB12E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285-4B96-467E-AC76-9B40C1A9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B0A-87B9-4DB9-B3FE-7245BCE9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BAB-8730-4C0E-99AE-81F24A9C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45A-3F7B-4B2F-B508-4B41EFA5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0D9-30B5-442D-925E-3330D39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6A2-709B-42EE-9EF2-33869025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620-0D5E-498D-A7AC-F320B9D8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463F-5000-4554-8273-62363DE2D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www.google.com/imgres?imgurl=http://www.randomclipart.com/clipart/images/cartoon-tropical-island-1083.png&amp;imgrefurl=http://www.randomclipart.com/174-cartoon-tropical-island/&amp;usg=__I1HNts4nbzeaSq439UEiZzYHx_s=&amp;h=300&amp;w=300&amp;sz=111&amp;hl=en&amp;start=19&amp;zoom=1&amp;um=1&amp;itbs=1&amp;tbnid=Em8AVrn-JfqPPM:&amp;tbnh=116&amp;tbnw=116&amp;prev=/images%3Fq%3DIsland%2BCartoon%26um%3D1%26hl%3Den%26safe%3Dactive%26tbs%3Disch: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www.google.com/imgres?imgurl=http://www.nationsonline.org/maps/USA_blank_map.jpg&amp;imgrefurl=http://www.thehomeschoolmom.com/schoolroom/fiar/mirette_on_the_high_wire.php&amp;usg=__E-HRYIbVnrApEeDOkihB2Lo8KzA=&amp;h=703&amp;w=1005&amp;sz=95&amp;hl=en&amp;start=1&amp;zoom=1&amp;um=1&amp;itbs=1&amp;tbnid=axsKs7u0HJzHgM:&amp;tbnh=104&amp;tbnw=149&amp;prev=/images%3Fq%3DNorth%2Bamerica%2Bmap%2Bcartoon%26um%3D1%26hl%3Den%26safe%3Dactive%26tbs%3Disch: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www.google.com/imgres?imgurl=http://www.istockphoto.com/file_thumbview_approve/861721/2/istockphoto_861721-frog-cartoon.jpg&amp;imgrefurl=http://www.istockphoto.com/stock-illustration-861721-frog-cartoon.php&amp;usg=__3ok1S1SaR36oMarkevUnQGNwT18=&amp;h=380&amp;w=372&amp;sz=70&amp;hl=en&amp;start=12&amp;zoom=1&amp;um=1&amp;itbs=1&amp;tbnid=Kq86nDPJe75ZRM:&amp;tbnh=123&amp;tbnw=120&amp;prev=/images%3Fq%3Dfrog%2Bcartoon%26um%3D1%26hl%3Den%26safe%3Dactive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erre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 terrestrial ecosystem is a community of organisms and their environment that occurs on land masses of conti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General for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Give the definition for a terrestrial eco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505320"/>
            <a:ext cx="161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 community of organisms and their environment that occurs on land masses of conti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30984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2.96296E-006 C 0.02344 -0.04722 0.04688 -0.09421 0.03924 -0.13171 C 0.0316 -0.16921 -0.046 -0.20023 -0.046 -0.22523 C -0.046 -0.25023 0.02206 -0.25833 0.03924 -0.28125 C 0.05643 -0.30416 -0.04478 -0.43865 0.05678 -0.36227 C 0.15834 -0.28588 0.8014 0.20301 0.64862 0.17662 C 0.49584 0.15023 -0.18194 -0.18541 -0.85955 -0.52083 E">
                                      <p:cBhvr>
                                        <p:cTn id="4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General for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What type of land masses does a terrestrial ecosystem take place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03880" y="3922560"/>
            <a:ext cx="19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ey are on ALL land mas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546360"/>
            <a:ext cx="190512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5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General for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What is the fuel for a terrestrial eco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51040" y="41511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2102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32 -0.11297 C 0.11319 -0.12755 0.12465 -0.12824 0.13264 -0.13473 C 0.13628 -0.13773 0.13941 -0.1419 0.1434 -0.14375 C 0.14982 -0.14676 0.16354 -0.14931 0.1717 -0.15093 C 0.17968 -0.16111 0.17899 -0.15625 0.18264 -0.17246 C 0.18107 -0.19746 0.17673 -0.2213 0.17448 -0.2463 C 0.17534 -0.25348 0.1717 -0.26713 0.17725 -0.26806 C 0.18524 -0.26945 0.19132 -0.25695 0.19739 -0.25 C 0.21337 -0.23172 0.22864 -0.21227 0.2434 -0.19236 C 0.27517 -0.14931 0.30555 -0.10463 0.33663 -0.06088 C 0.34861 -0.04398 0.34843 -0.04514 0.35955 -0.03912 C 0.34843 -0.07477 0.32778 -0.10463 0.30694 -0.13102 C 0.2868 -0.15648 0.2625 -0.17639 0.24479 -0.20486 C 0.24028 -0.21204 0.23559 -0.21922 0.23125 -0.22662 C 0.22934 -0.2301 0.2243 -0.24144 0.22587 -0.2375 C 0.23819 -0.20672 0.25087 -0.17616 0.26371 -0.14561 C 0.28732 -0.08912 0.31111 -0.02014 0.35955 0.00416 C 0.36493 0.00347 0.37118 -0.00162 0.37587 0.00231 C 0.37951 0.00532 0.36771 0.00578 0.36371 0.00764 C 0.3283 0.02314 0.27847 0.06088 0.23663 0.06898 C 0.24149 0.04421 0.24583 0.0206 0.25017 -0.00486 C 0.25225 -0.05973 0.26562 -0.14074 0.21232 -0.1544 C 0.20642 -0.15394 0.196 -0.16042 0.19479 -0.15278 C 0.19357 -0.14537 0.20538 -0.14723 0.21093 -0.14561 C 0.22396 -0.1419 0.23698 -0.13889 0.25017 -0.13658 C 0.27135 -0.13287 0.29253 -0.13056 0.31371 -0.12755 C 0.36718 -0.13102 0.37448 -0.11991 0.40555 -0.14005 C 0.34548 -0.14746 0.29479 -0.12176 0.23802 -0.09514 C 0.21493 -0.08426 0.15972 -0.06227 0.13663 -0.0301 C 0.13576 -0.03264 0.13559 -0.03588 0.13403 -0.0375 C 0.12656 -0.04514 0.09514 -0.04699 0.08802 -0.04815 C 0.06284 -0.0463 0.04687 -0.05093 0.02725 -0.03565 C 0.02587 -0.03334 0.0118 -0.01019 0.01632 -0.00486 C 0.01771 -0.00324 0.01788 -0.01412 0.02309 -0.01945 C 0.02725 -0.02361 0.03177 -0.02755 0.03663 -0.0301 C 0.04982 -0.03704 0.06354 -0.04283 0.07725 -0.04815 C 0.121 -0.06482 0.19062 -0.08681 0.23403 -0.09861 C 0.32274 -0.12292 0.43021 -0.14653 0.51371 -0.19236 C 0.54444 -0.20926 0.5783 -0.21922 0.60555 -0.24468 C 0.52413 -0.2838 0.4283 -0.27732 0.3434 -0.28426 C 0.2533 -0.27801 0.16701 -0.26783 0.07847 -0.24468 C 0.04062 -0.23473 0.00989 -0.22593 -0.02413 -0.20324 C -0.03334 -0.18797 -0.03629 -0.17686 -0.04445 -0.15996 C -0.06077 -0.12662 -0.07743 -0.09375 -0.09445 -0.06088 C -0.10608 -0.03843 -0.11511 -0.02292 -0.1283 -0.00324 C -0.13733 0.01018 -0.14844 0.02245 -0.1566 0.03657 C -0.16441 0.05 -0.16893 0.06412 -0.1783 0.07615 C -0.18229 0.10625 -0.1849 0.13564 -0.18629 0.1662 C -0.18577 0.17639 -0.18646 0.1868 -0.1849 0.19676 C -0.18403 0.20301 -0.17813 0.20602 -0.17413 0.20949 C -0.15695 0.22477 -0.12535 0.22801 -0.10521 0.23287 C 0.00867999999999999 0.21689 0.10225 0.12754 0.17048 0.00578 C 0.20816 -0.06158 0.23524 -0.13704 0.2651 -0.21042 C 0.29826 -0.2919 0.34323 -0.37037 0.36909 -0.45718 C 0.37587 -0.47986 0.38489 -0.50139 0.39479 -0.52199 C 0.39757 -0.52778 0.41093 -0.54144 0.41093 -0.52917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1447920"/>
            <a:ext cx="69343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t's time to play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 rot="600600">
            <a:off x="-685440" y="5667480"/>
            <a:ext cx="7238880" cy="23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COSYSTEM JEOPAR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-0.31111 L 0.2125 -0.64444 E">
                                      <p:cBhvr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1600200"/>
          <a:ext cx="8229600" cy="44593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80880" y="10666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106668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91440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biotic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914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iotic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914400"/>
            <a:ext cx="89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Food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nvironmental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ocation for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ere are terrestrial ecosystems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895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WHAT IS ON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1111E-006 C 0.00261 0.01018 0.00851 0.00949 0.01615 0.01088 C 0.03942 0.00879 0.05695 0.00879 0.0783 0.00185 C 0.08855 -0.01181 0.08612 -0.00764 0.09584 -0.02524 C 0.09775 -0.02871 0.09879 -0.03357 0.1014 -0.03612 C 0.10765 -0.04213 0.11251 -0.05 0.11754 -0.05764 C 0.11841 -0.05903 0.12692 -0.07014 0.1283 -0.07223 C 0.13039 -0.07547 0.13369 -0.08287 0.13369 -0.08287 C 0.13004 -0.09908 0.104 -0.09607 0.09584 -0.09723 C 0.06494 -0.09607 0.0224 -0.10186 -0.00538 -0.07755 C -0.00051 -0.04931 0.01702 -0.02801 0.03247 -0.00903 C 0.03924 -0.000699999999999999 0.04271 0.00509 0.0514 0.00902 C 0.07119 0.00648 0.08508 -0.00579 0.10261 -0.01991 C 0.1231 -0.03635 0.14671 -0.05787 0.16077 -0.08473 C 0.15383 -0.10255 0.13299 -0.10278 0.12015 -0.10625 C 0.08317 -0.10162 0.0658 -0.10394 0.03646 -0.08658 C 0.02449 -0.07061 0.02848 -0.07778 0.02292 -0.06667 C 0.03681 -0.03542 0.07501 -0.02871 0.09862 -0.02176 C 0.13421 -0.02894 0.13664 -0.02408 0.15678 -0.05579 C 0.16442 -0.08056 0.1658 -0.07037 0.16077 -0.08658 C 0.14063 -0.07732 0.1264 -0.05579 0.11476 -0.03241 C 0.14028 -0.01528 0.13143 -0.01713 0.17692 -0.03056 C 0.26216 -0.05556 0.35799 -0.09375 0.42153 -0.17848 C 0.40851 -0.19584 0.34271 -0.1544 0.33108 -0.14769 C 0.32275 -0.14283 0.31459 -0.1375 0.30678 -0.13149 C 0.30435 -0.12963 0.30209 -0.12709 0.30001 -0.12431 C 0.29879 -0.12269 0.29567 -0.11968 0.29723 -0.11899 C 0.30018 -0.11737 0.30365 -0.12014 0.30678 -0.12084 C 0.35452 -0.13149 0.32848 -0.12755 0.39046 -0.13519 C 0.43733 -0.14098 0.44185 -0.14075 0.48907 -0.14422 C 0.47622 -0.15024 0.49758 -0.13936 0.47969 -0.15325 C 0.4764 -0.15579 0.46893 -0.15857 0.46893 -0.15857 C 0.4264 -0.14862 0.42466 -0.12362 0.38108 -0.07037 C 0.31667 0.00833 0.36303 -0.04676 0.32292 0.01435 C 0.31546 0.02569 0.30626 0.03541 0.29862 0.04675 C 0.28091 0.07268 0.30365 0.04074 0.28508 0.07199 C 0.28091 0.07893 0.27622 0.08564 0.27153 0.09189 C 0.26997 0.09398 0.26615 0.09421 0.26615 0.09722 C 0.26615 0.09976 0.2698 0.0949 0.27153 0.09375 C 0.27587 0.09398 0.31528 0.09606 0.32153 0.09722 C 0.3757 0.10625 0.42813 0.12847 0.48247 0.13518 C 0.49289 0.13819 0.50313 0.14004 0.51355 0.14236 C 0.51945 0.14629 0.51754 0.14375 0.52015 0.14768 E">
                                      <p:cBhvr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ocation for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Which of the following would likely live in a Terrestrial Ecosyste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.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B. Merm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.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70920" y="392256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WHAT IS C. A HO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8052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368 0.05255 C -0.35 0.15185 -0.51632 0.25139 -0.48629 0.1787 C -0.45625 0.10602 -0.08854 -0.28241 -0.00382 -0.38356 C 0.0809 -0.48472 -0.06181 -0.47361 0.0217 -0.42847 C 0.10521 -0.38333 0.49427 -0.11319 0.4974 -0.11319 C 0.50052 -0.11319 0.12778 -0.36782 0.04062 -0.42847 C -0.04653 -0.48912 -0.0191 -0.49653 -0.02552 -0.47708 C -0.03194 -0.45764 -0.01528 -0.38449 0.00156 -0.31134 E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ocation for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f there was a new mall being built where a terrestrial ecosystem resides, 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70560" y="369396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e ecosystem would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99200" y="3262320"/>
            <a:ext cx="17780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C 0.01059 -0.0088 0.02187 -0.01296 0.03385 -0.01783 C 0.04948 -0.03449 0.05243 -0.04097 0.06094 -0.06296 C 0.05764 -0.09213 0.0434 -0.10648 0.0217 -0.10972 C 0.00816 -0.10741 0.01163 -0.10764 0.00677 -0.0919 C 0.00729 -0.08472 0.00556 -0.07662 0.00816 -0.07014 C 0.01059 -0.06435 0.01684 -0.06389 0.02031 -0.05926 C 0.04583 -0.02523 0.01233 -0.06852 0.05139 -0.02523 C 0.06545 -0.00972 0.07674 0.00648 0.09201 0.01991 C 0.10156 0.01551 0.09462 0.0206 0.09462 -0.00347 C 0.09462 -0.04352 0.0934 -0.03519 0.0974 -0.05579 C 0.09653 -0.06111 0.0967 -0.06713 0.09462 -0.07199 C 0.08368 -0.09861 0.06198 -0.12709 0.03924 -0.13334 C 0.0283 -0.13125 0.02587 -0.13125 0.02031 -0.11875 C 0.01806 -0.09468 0.01597 -0.06459 0.03108 -0.04861 C 0.04931 -0.05324 0.04861 -0.05718 0.06354 -0.07014 C 0.07951 -0.08403 0.09306 -0.09769 0.10417 -0.11875 C 0.11389 -0.05509 0.1783 -0.0132 0.21215 0.01643 C 0.22934 0.03148 0.25486 0.04907 0.26632 0.07407 C 0.27135 0.10046 0.22604 0.14467 0.21094 0.16041 C 0.20399 0.16759 0.18924 0.18032 0.18924 0.18032 C 0.18437 0.19028 0.17934 0.17546 0.1717 0.17129 C 0.13333 0.15046 0.09427 0.13171 0.05556 0.1118 C -0.00538 0.08055 -0.06979 0.0625 -0.13108 0.03264 C -0.14722 0.02477 -0.16337 0.01643 -0.17969 0.00903 C -0.18455 0.00671 -0.19444 0.0037 -0.19444 0.0037 C -0.21302 0.00486 -0.23056 0.00602 -0.24861 0.01088 C -0.25295 0.0169 -0.25504 0.01643 -0.25 0.02523 C -0.24722 0.03009 -0.24323 0.0331 -0.24045 0.03796 C -0.22917 0.05787 -0.20938 0.10949 -0.20399 0.12268 C -0.20069 0.13079 -0.19688 0.15162 -0.19444 0.16041 C -0.18976 0.17801 -0.1849 0.19467 -0.18108 0.21273 C -0.18004 0.21759 -0.17934 0.22222 -0.1783 0.22708 C -0.1776 0.23055 -0.17639 0.23426 -0.17569 0.23796 C -0.17465 0.24282 -0.17292 0.25231 -0.17292 0.25231 C -0.17222 0.26088 -0.17344 0.27315 -0.16754 0.27037 C -0.16424 0.26875 -0.16337 0.26227 -0.16076 0.25949 C -0.15556 0.25347 -0.1434 0.24028 -0.13646 0.23426 C -0.12934 0.22824 -0.12222 0.22176 -0.11476 0.21643 C -0.10035 0.20648 -0.08941 0.20254 -0.07691 0.18935 C -0.06198 0.15555 -0.04254 0.11991 -0.02691 0.08842 C -0.01875 0.07176 -0.00625 0.05787 -3.33333E-006 0.03981 C 0.00625 0.02176 0.00903 0.00416 0.01354 -0.01435 C 0.01719 -0.10463 0.02569 -0.19421 0.02986 -0.28449 C 0.02934 -0.2875 0.03021 -0.29167 0.02847 -0.29352 C 0.02708 -0.29514 0.02222 -0.29398 0.02309 -0.2919 C 0.02413 -0.28912 0.0276 -0.29074 0.02986 -0.29005 C 0.03767 -0.29213 0.04531 -0.2956 0.05278 -0.29908 C 0.0592 -0.29676 0.06528 -0.29306 0.0717 -0.29005 C 0.07569 -0.27431 0.07917 -0.25834 0.08385 -0.24306 C 0.08333 -0.23889 0.08385 -0.23449 0.08246 -0.23056 C 0.08142 -0.22755 0.07865 -0.22616 0.07708 -0.22338 C 0.06944 -0.20996 0.0684 -0.19861 0.05556 -0.19259 C 0.04479 -0.20232 0.03472 -0.21273 0.02569 -0.22523 C 0.02187 -0.23588 0.02552 -0.24514 0.02986 -0.25579 C 0.02986 -0.25602 0.04115 -0.27801 0.04201 -0.27917 C 0.0474 -0.28634 0.07969 -0.28449 0.08246 -0.28449 E">
                                      <p:cBhvr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ocation for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f an animal starts off as an aquatic animal and it grows to live on land, is it considered to live in a terrestrial eco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18280" y="392256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No, it lives In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3733920"/>
            <a:ext cx="1143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3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ocation for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Give the definition of the location for a terrestrial eco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9160" y="3770280"/>
            <a:ext cx="253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What is Landmasses of continents and Isla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5909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667 0.028 -0.08267 0.062 -0.08267 C 0.097 -0.08267 0.125 -0.04667 0.125 0 C 0.125 0.04667 0.153 0.08267 0.188 0.08267 C 0.222 0.08267 0.25 0.04667 0.25 0 E">
                                      <p:cBhvr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22:32Z</dcterms:created>
  <dc:creator>cfisd</dc:creator>
  <dc:description/>
  <dc:language>en-US</dc:language>
  <cp:lastModifiedBy>cfisd</cp:lastModifiedBy>
  <dcterms:modified xsi:type="dcterms:W3CDTF">2010-11-08T19:30:57Z</dcterms:modified>
  <cp:revision>4</cp:revision>
  <dc:subject/>
  <dc:title>Terrestrial</dc:title>
</cp:coreProperties>
</file>